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A1E-9C3D-4F76-BB5F-328AB7F5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8D7-84F7-4D9A-B119-411CF714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ACA-8C12-432B-BB3B-51F1C68A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0F4-21BE-440A-9931-78B194AE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AD1-0BAA-4AAD-ADA0-36150129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7A8-7705-4284-B5D8-028606E1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349-9492-4F6E-AA72-DA22CD64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5B9-DC53-4010-9F17-0590C340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74E-4B9C-4440-9CD6-9DBB67E7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066-5872-4723-A8B5-5959495A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CC7-A47F-4DCE-AF4B-2191329F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6E8-60B7-433B-890F-4566EE5B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303A-DEB0-4DE4-B2C9-B4D3F05B49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DADD-D66E-4A82-8467-DBF3AD302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metry in Asthma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dilato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ten Chh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 As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vanavarjit Raga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in detail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MT"/>
              </a:rPr>
              <a:t>Patients unconsciously accommodate to their symptoms, or mistakenly attribute these symptoms to other causes, like aging, obesity, or lack of fitness, so that they do not report them read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s’ perception of airflow obstruction is highly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ABB-4A82-4D9D-9DAA-204EC08199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51ED9-EB05-43FA-8D10-DA1DBDB085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sthma Pat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MT"/>
              </a:rPr>
              <a:t>Four Types of Asthma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d intermittent (comes and goes) – once or twice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d persistent asthma - &gt; twice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 persistent asthma – daily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persistent asthma – throughout the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AFB-C4B0-472E-B02A-C1953BC03A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884D9-0095-4741-A8CB-C79A3330BA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metry in Asth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metry and Remote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ossible attacks and alert associated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k flow monitoring during exacerbations will help determine the severity of the exacerbations and guide therapeutic decisions in the home, school, clinicians’ office, or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hma control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odules – Hospital End, Patient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2E3-E378-463E-BCE5-DADFD4EF82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13ED9-86D0-4776-A50D-F958892E41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of PEFR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tor reviews the patients who are exhibiting moderate and severe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Patient Whe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 alarms at the school nurse o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A92-DEB2-4E6D-AF7A-C13135DF3E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692F8-8D1C-4D20-8383-CD11E9E82C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home peak flow monitoring during exacerbations of asthma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s who have a history of severe exacerbations (Evidence B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s who have moderate or severe persistent asthma (Evidence B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s who have difficulty perceiving signs of worsening asthma (Evidence 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C28-43A9-487E-B155-B963E8F888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E16AF-E098-4037-ACB1-4863499F0B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ital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73400" cy="4724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4419720"/>
            <a:ext cx="3657600" cy="184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D46-8953-4076-B8E8-02FC84B80E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5473B-16EF-43A3-9DC2-C0D9019D91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ie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rometer connected to computer which updates the database with the dail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PEFR values, patient grouped as steady, moderate or severe pat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429000" cy="28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D6F-6A04-48DD-9AC8-1161D92B93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379BC-B90F-4946-A5BE-EB5FEBBBC9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dant - Whee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2627280" cy="3809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ant with a microphone which can record the patient’s brea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se of wheeze, the pendant turns colour, alerts school nurse/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483-D8E4-4264-9C8D-339CFAAE22B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1EE03-D827-460D-906F-88E9145D92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rometer 1000 - 4000$ ???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FR (electronic metered devices) 50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floor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ch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ant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02C-8F76-4205-8016-1F9EE8585C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34EEB-AE3A-4585-AAAC-296B6E3CA5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551480" cy="3402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5520" y="1560600"/>
            <a:ext cx="3809880" cy="2859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4495680"/>
            <a:ext cx="2058840" cy="17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E92-7876-4AA1-9043-AF1ECFF709E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112A9-686B-4E88-926C-CD88810DB9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00068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386-8003-463F-A7E3-AAFCF899D5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2D209-5849-44F1-846B-63F8C87D95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105160" cy="42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140-F916-48E1-B6EA-821824FA89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6B38F-A232-404E-878E-8105487A76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27280" cy="38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737-1A2A-468E-BA82-51486EAC9C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60524-EBA4-4D03-9B62-F7320F4EB4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illness in  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al tube becomes inflated, lined with mu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s – allergens, air, exercis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- Wheezing, shortness of breath, chest tightness,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5863" t="5842" r="4763" b="3649"/>
          <a:stretch/>
        </p:blipFill>
        <p:spPr>
          <a:xfrm>
            <a:off x="4419720" y="1523880"/>
            <a:ext cx="464796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A5A-F460-43C4-A129-59F0669646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EE09D-9D4E-4A17-8536-5264007D99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k Expiratory Flow Rate PEFR– patient's max ability to expel air from the lu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difference on at least 3 days/week for 2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hildren – allergy trigger – pollen, pets,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or more Sports, 3 times more chances – 17 times more air than normal - California Children's Health Stu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342120" y="3505320"/>
            <a:ext cx="2649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14402" t="7233" r="23205" b="0"/>
          <a:stretch/>
        </p:blipFill>
        <p:spPr>
          <a:xfrm>
            <a:off x="6629400" y="1143000"/>
            <a:ext cx="228600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EDA-58C1-422F-812B-A53538815B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4EB72-19D0-421E-A818-A99BF74257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ri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– severity,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evers – nebulizers, bronchodil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ve –  glucocortids – suppress inflammation, antihista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– O2, intubation &amp; mechanical vent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352680" cy="26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32D-602F-4E10-8C9F-548913C06A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CF879-E1AA-49F1-8E52-B618AF64FF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Visits to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bility to continuously monitor patient’s  asthma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’s tendency to adjust to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ild’s perception of airflow obstruction is highly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952-F2FC-4C23-9E98-078381172E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5F069-3FF5-4054-8D1C-BD5A2DFDF8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of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mittent or mild persistent asthma once every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who have uncontrolled and/or severe persistent asthma – more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iculty in monitoring and trac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05520" y="3267000"/>
            <a:ext cx="3886200" cy="26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ten, Ali, Lava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801-BCCC-4F7B-B9E4-1471756D83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4997E-5160-4333-9F95-53DD714E94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24:33Z</dcterms:created>
  <dc:creator>labuser</dc:creator>
  <dc:description/>
  <dc:language>en-US</dc:language>
  <cp:lastModifiedBy>labuser</cp:lastModifiedBy>
  <dcterms:modified xsi:type="dcterms:W3CDTF">2007-10-25T20:35:22Z</dcterms:modified>
  <cp:revision>14</cp:revision>
  <dc:subject/>
  <dc:title>Asthma Telemetry</dc:title>
</cp:coreProperties>
</file>